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DF63-69A8-4DBC-8063-D6F33193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5AEF-E9B7-454E-900A-D16600A7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9EE8-109A-46EB-9ACA-FBFC38C7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8C27-F7A2-4C9C-AD6E-A4BADF16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DD3C-ED68-4C75-8662-B24804A8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63A2-F9B7-40FE-8372-8C03B966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FFB7-4B6D-4A69-9994-54F63CB3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E2A8-DC10-435F-8D57-1C041097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F429-8314-4785-8658-A5CE18E8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E193-FF80-4689-8F3B-8881ED96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16FC-B55D-46C8-A095-FE110170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686B-66D7-4F05-B942-FEC68861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67E3-5949-4617-AB97-06936A191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16256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205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765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1:24:45Z</dcterms:created>
  <dc:creator> </dc:creator>
  <dc:description/>
  <dc:language>en-US</dc:language>
  <cp:lastModifiedBy> </cp:lastModifiedBy>
  <dcterms:modified xsi:type="dcterms:W3CDTF">2009-03-06T01:24:45Z</dcterms:modified>
  <cp:revision>1</cp:revision>
  <dc:subject/>
  <dc:title>Slide 1</dc:title>
</cp:coreProperties>
</file>